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or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timesup%5B1%5D.wav" ContentType="audio/x-wav"/>
  <Override PartName="/ppt/media/image4.jpeg" ContentType="image/jpeg"/>
  <Override PartName="/ppt/media/thinktheme%5B1%5D.wav" ContentType="audio/x-wav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CF1A-C6A5-4C5F-A471-B1CA97766AE0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A.  What is it lik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B.  How do people relate to the physical world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C.  How do people, goods, and ideas move from one location to another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D.  Where is it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E.  How are places similar or different?</a:t>
            </a:r>
            <a:r>
              <a:rPr b="0" lang="en-US" sz="13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0C9-5FF2-4A5C-AEAD-9C3E685C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32F-9ECC-4651-980C-F42CAEC7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014-2EC6-4235-876B-9AA3EB02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4B4-745A-4B3F-976E-EE4D67F1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31C-6336-47BB-9315-01D7A822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BC8-36AA-433F-901A-08B23CFB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EB0-E026-48C4-8632-AFCCBE5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D16-2F98-4A02-A0B8-F2D71323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0C6-4C1B-41D1-B29D-390C8848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F55-360C-4E92-B4F4-F3EFC0D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DCF-844B-4A48-B6A1-20890CC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3D9-FB80-4F39-8497-D947FF6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985A-F467-4822-89E1-C10A89AE5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14.xml"/><Relationship Id="rId21" Type="http://schemas.openxmlformats.org/officeDocument/2006/relationships/slide" Target="slide19.xml"/><Relationship Id="rId22" Type="http://schemas.openxmlformats.org/officeDocument/2006/relationships/slide" Target="slide2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0.xml"/><Relationship Id="rId27" Type="http://schemas.openxmlformats.org/officeDocument/2006/relationships/slide" Target="slide25.xml"/><Relationship Id="rId28" Type="http://schemas.openxmlformats.org/officeDocument/2006/relationships/slide" Target="slide25.xm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6.xml"/><Relationship Id="rId34" Type="http://schemas.openxmlformats.org/officeDocument/2006/relationships/slide" Target="slide21.xml"/><Relationship Id="rId35" Type="http://schemas.openxmlformats.org/officeDocument/2006/relationships/slide" Target="slide26.xml"/><Relationship Id="rId36" Type="http://schemas.openxmlformats.org/officeDocument/2006/relationships/slide" Target="slide17.xml"/><Relationship Id="rId37" Type="http://schemas.openxmlformats.org/officeDocument/2006/relationships/slide" Target="slide22.xml"/><Relationship Id="rId38" Type="http://schemas.openxmlformats.org/officeDocument/2006/relationships/slide" Target="slide27.xml"/><Relationship Id="rId39" Type="http://schemas.openxmlformats.org/officeDocument/2006/relationships/slide" Target="slide12.xml"/><Relationship Id="rId40" Type="http://schemas.openxmlformats.org/officeDocument/2006/relationships/slide" Target="slide32.xml"/><Relationship Id="rId41" Type="http://schemas.openxmlformats.org/officeDocument/2006/relationships/slide" Target="slide31.xml"/><Relationship Id="rId42" Type="http://schemas.openxmlformats.org/officeDocument/2006/relationships/slide" Target="slide30.xml"/><Relationship Id="rId43" Type="http://schemas.openxmlformats.org/officeDocument/2006/relationships/slide" Target="slide30.xml"/><Relationship Id="rId44" Type="http://schemas.openxmlformats.org/officeDocument/2006/relationships/slide" Target="slide29.xml"/><Relationship Id="rId45" Type="http://schemas.openxmlformats.org/officeDocument/2006/relationships/slide" Target="slide28.xml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.png"/><Relationship Id="rId4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timesup%5B1%5D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thinktheme%5B1%5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audio" Target="../media/timesup%5B1%5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audio" Target="../media/timesup%5B1%5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752480"/>
            <a:ext cx="8001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cial Sci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emester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51040" y="241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3623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general cultural trait that exists in all cul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04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09680" y="38088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572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ltural uni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736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0574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reading of cultural elements from one culture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235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666880" y="457200"/>
            <a:ext cx="3962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6576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al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70160" y="2038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362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form of government is when the central government and state governments hav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35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352680" y="457200"/>
            <a:ext cx="3353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962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deralism (US has th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648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505320"/>
            <a:ext cx="691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186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95480" y="0"/>
            <a:ext cx="2667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5909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se people use fear to get what they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9528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rror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6480" y="280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14600"/>
            <a:ext cx="71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00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24080" y="53352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133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occurs in areas where city development increases without planned grow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4114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ban Spra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244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438280" y="380880"/>
            <a:ext cx="3276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13372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when one group gives up their culture to fit into the larger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267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1040" y="3638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7400" y="380880"/>
            <a:ext cx="5029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286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describes a type of community where people live and work in the same area and it is well-plan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114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stainabl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048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57400" y="380880"/>
            <a:ext cx="3352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4114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590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name of the trade agreement between the US, Canada, and 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127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22440" y="15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9760" y="2043000"/>
            <a:ext cx="62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the largest country in Latin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720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809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15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98760" y="1581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mountain range runs down the western coastline of South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3809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2840" y="6095880"/>
            <a:ext cx="4149360" cy="5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Final Jeopard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0"/>
            <a:ext cx="11430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5" action="ppaction://hlinksldjump"/>
              </a:rPr>
              <a:t>5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6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1" action="ppaction://hlinksldjump"/>
          </p:cNvPr>
          <p:cNvSpPr/>
          <p:nvPr/>
        </p:nvSpPr>
        <p:spPr>
          <a:xfrm>
            <a:off x="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16002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32004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48006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7" action="ppaction://hlinksldjump"/>
          </p:cNvPr>
          <p:cNvSpPr/>
          <p:nvPr/>
        </p:nvSpPr>
        <p:spPr>
          <a:xfrm>
            <a:off x="6400800" y="2438280"/>
            <a:ext cx="16002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8" action="ppaction://hlinksldjump"/>
          </p:cNvPr>
          <p:cNvSpPr/>
          <p:nvPr/>
        </p:nvSpPr>
        <p:spPr>
          <a:xfrm>
            <a:off x="16002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0" action="ppaction://hlinksldjump"/>
          </p:cNvPr>
          <p:cNvSpPr/>
          <p:nvPr/>
        </p:nvSpPr>
        <p:spPr>
          <a:xfrm>
            <a:off x="32004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1" action="ppaction://hlinksldjump"/>
          </p:cNvPr>
          <p:cNvSpPr/>
          <p:nvPr/>
        </p:nvSpPr>
        <p:spPr>
          <a:xfrm>
            <a:off x="48006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2" action="ppaction://hlinksldjump"/>
          </p:cNvPr>
          <p:cNvSpPr/>
          <p:nvPr/>
        </p:nvSpPr>
        <p:spPr>
          <a:xfrm>
            <a:off x="6400800" y="304812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3" action="ppaction://hlinksldjump"/>
          </p:cNvPr>
          <p:cNvSpPr/>
          <p:nvPr/>
        </p:nvSpPr>
        <p:spPr>
          <a:xfrm>
            <a:off x="32004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5" action="ppaction://hlinksldjump"/>
          </p:cNvPr>
          <p:cNvSpPr/>
          <p:nvPr/>
        </p:nvSpPr>
        <p:spPr>
          <a:xfrm>
            <a:off x="48006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7" action="ppaction://hlinksldjump"/>
          </p:cNvPr>
          <p:cNvSpPr/>
          <p:nvPr/>
        </p:nvSpPr>
        <p:spPr>
          <a:xfrm>
            <a:off x="64008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9" action="ppaction://hlinksldjump"/>
          </p:cNvPr>
          <p:cNvSpPr/>
          <p:nvPr/>
        </p:nvSpPr>
        <p:spPr>
          <a:xfrm>
            <a:off x="1600200" y="3733920"/>
            <a:ext cx="16002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1" action="ppaction://hlinksldjump"/>
          </p:cNvPr>
          <p:cNvSpPr/>
          <p:nvPr/>
        </p:nvSpPr>
        <p:spPr>
          <a:xfrm>
            <a:off x="16002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3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3" action="ppaction://hlinksldjump"/>
          </p:cNvPr>
          <p:cNvSpPr/>
          <p:nvPr/>
        </p:nvSpPr>
        <p:spPr>
          <a:xfrm>
            <a:off x="32004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4" action="ppaction://hlinksldjump"/>
          </p:cNvPr>
          <p:cNvSpPr/>
          <p:nvPr/>
        </p:nvSpPr>
        <p:spPr>
          <a:xfrm>
            <a:off x="48006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5" action="ppaction://hlinksldjump"/>
          </p:cNvPr>
          <p:cNvSpPr/>
          <p:nvPr/>
        </p:nvSpPr>
        <p:spPr>
          <a:xfrm>
            <a:off x="6400800" y="44956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6" action="ppaction://hlinksldjump"/>
          </p:cNvPr>
          <p:cNvSpPr/>
          <p:nvPr/>
        </p:nvSpPr>
        <p:spPr>
          <a:xfrm>
            <a:off x="32004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7" action="ppaction://hlinksldjump"/>
          </p:cNvPr>
          <p:cNvSpPr/>
          <p:nvPr/>
        </p:nvSpPr>
        <p:spPr>
          <a:xfrm>
            <a:off x="48006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8" action="ppaction://hlinksldjump"/>
          </p:cNvPr>
          <p:cNvSpPr/>
          <p:nvPr/>
        </p:nvSpPr>
        <p:spPr>
          <a:xfrm>
            <a:off x="64008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9" action="ppaction://hlinksldjump"/>
          </p:cNvPr>
          <p:cNvSpPr/>
          <p:nvPr/>
        </p:nvSpPr>
        <p:spPr>
          <a:xfrm>
            <a:off x="1600200" y="5181480"/>
            <a:ext cx="1600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0" action="ppaction://hlinksldjump"/>
          </p:cNvPr>
          <p:cNvSpPr/>
          <p:nvPr/>
        </p:nvSpPr>
        <p:spPr>
          <a:xfrm>
            <a:off x="8001000" y="51814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1" action="ppaction://hlinksldjump"/>
          </p:cNvPr>
          <p:cNvSpPr/>
          <p:nvPr/>
        </p:nvSpPr>
        <p:spPr>
          <a:xfrm>
            <a:off x="8001000" y="449568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2" action="ppaction://hlinksldjump"/>
          </p:cNvPr>
          <p:cNvSpPr/>
          <p:nvPr/>
        </p:nvSpPr>
        <p:spPr>
          <a:xfrm>
            <a:off x="8001000" y="3733920"/>
            <a:ext cx="1143000" cy="761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4" action="ppaction://hlinksldjump"/>
          </p:cNvPr>
          <p:cNvSpPr/>
          <p:nvPr/>
        </p:nvSpPr>
        <p:spPr>
          <a:xfrm>
            <a:off x="8001000" y="3048120"/>
            <a:ext cx="11430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5" action="ppaction://hlinksldjump"/>
          </p:cNvPr>
          <p:cNvSpPr/>
          <p:nvPr/>
        </p:nvSpPr>
        <p:spPr>
          <a:xfrm>
            <a:off x="8001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6324480"/>
          <a:ext cx="304920" cy="30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8380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651040" y="432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6019920"/>
            <a:ext cx="10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362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urism is a growing industry, especially in these two areas (regions) of Latin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38862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xico and the Caribb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7016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18600" y="60958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752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zil was colonized by this group of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73392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ugu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727360" y="4172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4720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62320" y="304920"/>
            <a:ext cx="4228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tin Am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905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 was Panama a good country to build a canal that connects the Atlantic to the Pacif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4114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0996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32280" y="1428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22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19051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brown haze created when gases react with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m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5080" y="2647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133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group was formed to secure a lasting peace in Europe after World War I and World War I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4038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ropean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75040" y="60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486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7088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country was torn apart by conflict in the 199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51040" y="3409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se are the two most dominant countries of Western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4114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rmany and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75080" y="340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492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1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905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ere the three ways in which other countries reacted to Serbia’s actions in the 199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3276720"/>
            <a:ext cx="434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conomic boy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go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litary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46400" y="161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965240" y="2266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514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mountain range separates the Northern European and Siberian Plains in Rus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9625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ral Mou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720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81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is an economy in which the central government makes all the decisions about a country’s economic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39625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711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cago’s location of 42°N, 88°W is an example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7088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733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solute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75080" y="379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7088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81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was used by Russian leaders as part of their move from a command economy to a capitalist ec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038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iva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727360" y="3257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4920" y="548640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leader gave more economic and political freedom in the Soviet Un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39625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khail Gorba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565440" y="440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6480" y="310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94920" y="53341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uss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tvia, Lithuania, and Estonia are known as this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429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l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81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problems occurred after the break-up of the Soviet Un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65240" y="285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038480" y="6338880"/>
            <a:ext cx="1067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81080" y="380880"/>
            <a:ext cx="5067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819520" y="3048120"/>
            <a:ext cx="36036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ime is up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514600" y="56386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 have 20 seconds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4419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flicts in the Caucasus, crime (mafia), struggling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25800" y="4435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84280" y="4397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nkthem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89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286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geographical theme that is expressed in terms of physical and human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35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43200" y="457200"/>
            <a:ext cx="327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72428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86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89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35000" y="2712960"/>
            <a:ext cx="52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0880" y="60199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124080" y="53352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2096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theory of the origins of government sees government rulers as representatives of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3657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vine Righ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55760" y="2495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133720"/>
            <a:ext cx="521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4920" y="579132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8288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prime minister is the chief executive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9625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parliamentary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5080" y="1962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579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362320" y="38088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00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7524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is type of government there is only one branch of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191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itary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7880" y="356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251460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4920" y="58672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380880"/>
            <a:ext cx="5105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3623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idea that is composed of knowledge, attitudes, and behaviors of a specific group is known a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148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2096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economy is a system in which the major economic decisions are made by the central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70880" y="5638680"/>
            <a:ext cx="97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57400" y="38088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G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657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6:43:42Z</dcterms:created>
  <dc:creator>IPSD 204</dc:creator>
  <dc:description/>
  <dc:language>en-US</dc:language>
  <cp:lastModifiedBy>Buffalo Grove High School</cp:lastModifiedBy>
  <cp:lastPrinted>2003-09-29T17:45:32Z</cp:lastPrinted>
  <dcterms:modified xsi:type="dcterms:W3CDTF">2008-01-15T14:19:21Z</dcterms:modified>
  <cp:revision>126</cp:revision>
  <dc:subject/>
  <dc:title>No Slide Title</dc:title>
</cp:coreProperties>
</file>